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782-4C7E-45D4-BC3E-505774E1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A8F-E7A3-43DC-BF99-40C934F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C40-9903-4B86-B7AA-8EA9EC4A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04F-E8C3-4D3C-AD5C-BE59E5E9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22E-0679-47A9-8506-933F66BF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43-C90D-44DA-AE20-D9FF455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B8B-21EE-4D1A-AE15-ECD08F0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467-DDD9-4CF7-AD50-CD18D74E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0DC-DCB3-4486-85A2-2DA889F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047-DDA7-4BB3-B7D5-E42EBE6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72B-BBDF-4509-94D9-7D19D3E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3A7-56D1-4D96-B4CF-4D15BE4C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946-56E1-4FCC-85B4-8320A673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slade i Räddningstjäns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-01-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4 La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 Knä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82888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280" y="315756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er på väg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äddningstjänste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wedbank har e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löshetsförsäkring som täcker för en viss del av den förlorade arbetsförtjän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ck gäller inte denna om ett arbete finns vid sida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288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ågor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äddningstjänst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32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er fö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yss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ha varit anställd minst 1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ättningen får ej överstiga 7680kr/må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arbeta heltid vs ej avdrag för larm eller att man inarbetar 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vningar/beredskap räknas som bisyssla men inte 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ätt till 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n arbetslöse skall lämna intyg om att rtj omedelbart kan befria den anställde från tjänstgöringsskyldighet i samband med att  den anställde blir erbjuden ett annat arbete som inte kan förenas med den nya tjä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år ej vakta mer än sin ordinarie 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 högsta ersättningen från a-kassan är 680kr/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5 larm på 5 olika dagar dag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22x5=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340=1700       totalt     2810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a 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680= 3400       totalt     3400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skillnad 590kr/vecka i detta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09512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tt larm per dag, räknas som en halv arbetad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rsättningsperioden är 300 dagar för alla, både hel- och deltidsarbetslösa. Men bara 75 av dem kan användas för ersättning när du är deltidsarbetslös. Den begränsningen kallas 75-dagarsregeln. Om du under en vecka både får ersättning från a-kassan och jobbar deltid räknas de dagar du får ersättning som deltidsdagar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80000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Räddningstjänste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5-dagars rege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xempel:Kalle blir arbetslös och påbörjar en ersättningsperiod som innehåller 300 dagar. 75 av dem kan användas som deltidsdagar.Vecka 1: Kalle är helt arbetslös och får ersättning 5 dagar.När veckan är slut har Kalle 295 ersättningsdagar kvar i perioden. Han kan fortfarande använda 75 dagar av de 295 som deltidsda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ecka 2: Kalle arbetar deltid 3 dagar och får ersättning 2 dagar. Dessa 2 ersättningsdagar räknas som deltidsdagar.När veckan är slut har Kalle 293 ersättningsdagar kvar i perioden. Men eftersom han har använt 2 deltidsdagar kan han nu bara använda 73 av de 293 dagarna som deltidsdagar.     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vid arbete 2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äcker de 75 dgr i 1 år och 21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 300 dagarna i 1 år och 17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 vid arbete 4,5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r de 75 dagarnas slut efter 49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390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sättning för deltidsarb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som stämplar upp till heltid kan få ersättning under högst 75 dagar inom en period på totalt 300 ersättningsda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r dessa dagar är förbrukade kommer man i ett läge där man måste välja mel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idsarbetet och ingen mer a-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ga upp sin deltidsanställ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08720" y="4705200"/>
            <a:ext cx="16290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har vi jobbat och hur jobbar vi vi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a-ka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riksdagsledamö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S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ill KLK :s ledningsgr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KS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änsteskrivelse till kommu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64280" y="4724280"/>
            <a:ext cx="179856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2:55:14Z</dcterms:created>
  <dc:creator> </dc:creator>
  <dc:description/>
  <dc:language>en-US</dc:language>
  <cp:lastModifiedBy>LADT</cp:lastModifiedBy>
  <dcterms:modified xsi:type="dcterms:W3CDTF">2013-01-08T10:26:50Z</dcterms:modified>
  <cp:revision>10</cp:revision>
  <dc:subject/>
  <dc:title>Varslade i Räddningstjänsten 2013-01-07</dc:title>
</cp:coreProperties>
</file>